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D372-9583-46C9-9CCB-584D36C6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260-1658-4A37-BF24-1D470C29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1A4-0B3C-4E15-97C0-C9CADCE9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380-418B-4035-B262-321FCB03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8E07-A726-4CE0-B385-D8EE8965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83B6-345A-42EC-8591-940C546A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E1B5-06AC-44F0-BA9A-06C9A795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E702-2B74-47D9-A3CC-23920014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32ED-3579-40AF-9D91-536E3904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B401-2458-43F8-99B1-114AF6E9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D78D-35B8-4121-8A79-D4F9474E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8EB4-933F-4408-8EF6-3A5A3841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6CE9-5A55-4429-BB40-0ED9F5E4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93D9-AE63-4452-99AA-F709CD77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EEBC-3B63-4DD7-B3DD-0819E3FB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65A3-5A5B-4054-ACA2-D128CEE3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47A5-4207-4883-BFB7-81B71BAD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A626-11B5-4B66-9F66-F18F917A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AB3-F509-4992-AB26-08E61E95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4A1-A406-4ED2-8974-8037A183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E517-503A-4E92-B50C-348B0D0D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6CD3-1FCF-49E1-94F8-2657AF08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598-8DC0-496A-8187-6974EF0C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7FC-7BD5-49BF-ADD4-195503CD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4e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E16C-C2D1-45EE-91B9-667864C89DC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4e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B590-30FA-4908-BA6D-F6FA9B5DA24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youtube.com/watch?v=ldiPn0ngxK0&amp;feature=related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diPn0ngxK0&amp;feature=relate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396252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Ge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i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hemis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Observ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Geol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Ear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Environmen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Ev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Significan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Natu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Susta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xpens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Inv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800600" y="380880"/>
            <a:ext cx="3962520" cy="57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ми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блюд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ающая сре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читель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в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брет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800600" y="380880"/>
            <a:ext cx="3962520" cy="57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ми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блюд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ающая сре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читель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в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брет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457200" y="457200"/>
          <a:ext cx="8229600" cy="5332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autiful things we 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ngerous things we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ings we can do to protect na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6386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533520" y="152280"/>
            <a:ext cx="807696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Ссылка на видеофрагмент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youtube.com/watch?v=ldiPn0ngxK0&amp;feature=relate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ебник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joy Englis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 для 10 класс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иболетовой М.З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ебник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ppy Englis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7-9 классов Клементьевой Т.Б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youtube.com/watch?v=ldiPn0ngxK0&amp;feature=relate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335268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743200" y="380880"/>
            <a:ext cx="327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Geo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chemis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Observa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eologi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ca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Earth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qua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nvironment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al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ventual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ignificant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l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Natur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al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ustain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mis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sion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In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xpens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Inventive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nes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6172200" y="304920"/>
            <a:ext cx="3505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еохими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блюдени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еологический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емлетрясени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кружающи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конечном итог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начительно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родный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ддерживающий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бросы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обретательност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380880"/>
            <a:ext cx="327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eochemis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Observ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eologica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arthqua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nvironmenta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ventual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ignificantl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Natural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ustain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mission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Inexpens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Inventivenes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5105520" y="533520"/>
            <a:ext cx="99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410080" y="380880"/>
            <a:ext cx="914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Do you know how long these things last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52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traffic tick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banana pe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wool soc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wooden stic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painted wooden sta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wax paper c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tin c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aluminum c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plastic contain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lass bott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3581280" y="1523880"/>
            <a:ext cx="18288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 month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5486400" y="1828800"/>
            <a:ext cx="175752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 month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WordArt 9"/>
          <p:cNvSpPr txBox="1"/>
          <p:nvPr/>
        </p:nvSpPr>
        <p:spPr>
          <a:xfrm>
            <a:off x="3581280" y="2362320"/>
            <a:ext cx="130500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year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WordArt 10"/>
          <p:cNvSpPr txBox="1"/>
          <p:nvPr/>
        </p:nvSpPr>
        <p:spPr>
          <a:xfrm>
            <a:off x="5486400" y="2666880"/>
            <a:ext cx="1595520" cy="4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 years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11"/>
          <p:cNvSpPr txBox="1"/>
          <p:nvPr/>
        </p:nvSpPr>
        <p:spPr>
          <a:xfrm>
            <a:off x="4952880" y="3200400"/>
            <a:ext cx="168588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3 years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WordArt 12"/>
          <p:cNvSpPr txBox="1"/>
          <p:nvPr/>
        </p:nvSpPr>
        <p:spPr>
          <a:xfrm>
            <a:off x="3962520" y="3657600"/>
            <a:ext cx="1380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years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WordArt 13"/>
          <p:cNvSpPr txBox="1"/>
          <p:nvPr/>
        </p:nvSpPr>
        <p:spPr>
          <a:xfrm>
            <a:off x="5562720" y="39625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0 years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WordArt 14"/>
          <p:cNvSpPr txBox="1"/>
          <p:nvPr/>
        </p:nvSpPr>
        <p:spPr>
          <a:xfrm>
            <a:off x="3962520" y="4419720"/>
            <a:ext cx="1076040" cy="4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ver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15"/>
          <p:cNvSpPr txBox="1"/>
          <p:nvPr/>
        </p:nvSpPr>
        <p:spPr>
          <a:xfrm>
            <a:off x="5334120" y="4800600"/>
            <a:ext cx="2895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p to 500 years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WordArt 16"/>
          <p:cNvSpPr txBox="1"/>
          <p:nvPr/>
        </p:nvSpPr>
        <p:spPr>
          <a:xfrm>
            <a:off x="3962520" y="5486400"/>
            <a:ext cx="1218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ver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457200" y="547560"/>
            <a:ext cx="8686800" cy="6310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2590920" y="0"/>
            <a:ext cx="4047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ke word combin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swer the ques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. What does Vernandsky's theory say about the Earth futur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838080" y="3352680"/>
            <a:ext cx="48196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f the science guide the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ociety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762120" y="4800600"/>
            <a:ext cx="6858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t would soften the human  environmental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mpact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. What  does the biologi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think about human impa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on the Earth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533520" y="4038480"/>
            <a:ext cx="83055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eople are clever enough to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e able to maintain the rates of progress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. What are the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examples of human intera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with natur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762120" y="3505320"/>
            <a:ext cx="5867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mission of carbon dioxid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WordArt 5"/>
          <p:cNvSpPr txBox="1"/>
          <p:nvPr/>
        </p:nvSpPr>
        <p:spPr>
          <a:xfrm>
            <a:off x="762120" y="4495680"/>
            <a:ext cx="4190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lobal warming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WordArt 6"/>
          <p:cNvSpPr txBox="1"/>
          <p:nvPr/>
        </p:nvSpPr>
        <p:spPr>
          <a:xfrm>
            <a:off x="762120" y="5334120"/>
            <a:ext cx="3504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utting forests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4. What will help people to lessen human impact on the Earth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838080" y="3352680"/>
            <a:ext cx="702468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Experts say that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same inventivenes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at accelerate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uman development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6" name="WordArt 5"/>
          <p:cNvSpPr txBox="1"/>
          <p:nvPr/>
        </p:nvSpPr>
        <p:spPr>
          <a:xfrm>
            <a:off x="914400" y="5334120"/>
            <a:ext cx="6477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an be used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o soften human impact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7:48:05Z</dcterms:created>
  <dc:creator>user</dc:creator>
  <dc:description/>
  <dc:language>en-US</dc:language>
  <cp:lastModifiedBy>123</cp:lastModifiedBy>
  <dcterms:modified xsi:type="dcterms:W3CDTF">2012-02-28T19:19:3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